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laser.wav" ContentType="audio/x-wav"/>
  <Override PartName="/ppt/media/image12.wmf" ContentType="image/x-wmf"/>
  <Override PartName="/ppt/media/image7.wmf" ContentType="image/x-wmf"/>
  <Override PartName="/ppt/media/projctor.wav" ContentType="audio/x-wav"/>
  <Override PartName="/ppt/media/carbrake.wav" ContentType="audio/x-wav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8.jpeg" ContentType="image/jpeg"/>
  <Override PartName="/ppt/media/image13.wmf" ContentType="image/x-wmf"/>
  <Override PartName="/ppt/media/whoosh.wav" ContentType="audio/x-wav"/>
  <Override PartName="/ppt/media/image9.jpeg" ContentType="image/jpeg"/>
  <Override PartName="/ppt/media/image11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686B-6436-4859-A79A-8627FEDF8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0BBE-5493-42C3-BDDC-A5900431D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594-2E2D-46F5-B697-B8D37C31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C70-E457-4C8E-9931-36ACE081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AF8-7763-4BAD-903B-7DF074FB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D5B-EC55-4F56-99B6-34434680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F9A-8A52-4230-AC64-85FF902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8C4-0504-4937-81FE-0C361E66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5E1-2BD2-450D-8D8E-DD9F167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291-1A53-46F9-A048-39D99B9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52B-1329-4035-A320-388C9D0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727-65D0-47F6-951F-AADE3AF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706-5612-48A8-977E-4741A747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FC7-5A3C-4161-80CE-306A2DB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2CB0-EF52-4BFE-B0AD-F261810D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COMPOUND</a:t>
            </a:r>
            <a:r>
              <a:rPr b="0" lang="en-US" sz="6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wo words put together to make one large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fire + tru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firetru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C:\Documents and Settings\Owner\Application Data\Microsoft\Media Catalog\Downloaded Clips\cl3b\j0149657.wmf"/>
          <p:cNvPicPr/>
          <p:nvPr/>
        </p:nvPicPr>
        <p:blipFill>
          <a:blip r:embed="rId1"/>
          <a:srcRect l="0" t="19379" r="0" b="7966"/>
          <a:stretch/>
        </p:blipFill>
        <p:spPr>
          <a:xfrm>
            <a:off x="4648320" y="3200400"/>
            <a:ext cx="419076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cow + b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cowb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c:\program files\microsoft office\clipart\standard\stddir4\pe03099_.wmf"/>
          <p:cNvPicPr/>
          <p:nvPr/>
        </p:nvPicPr>
        <p:blipFill>
          <a:blip r:embed="rId1"/>
          <a:stretch/>
        </p:blipFill>
        <p:spPr>
          <a:xfrm>
            <a:off x="6019920" y="3276720"/>
            <a:ext cx="1276200" cy="28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utter + f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Butterf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c:\program files\microsoft office\clipart\standard\stddir2\dd00693_.wmf"/>
          <p:cNvPicPr/>
          <p:nvPr/>
        </p:nvPicPr>
        <p:blipFill>
          <a:blip r:embed="rId1"/>
          <a:stretch/>
        </p:blipFill>
        <p:spPr>
          <a:xfrm>
            <a:off x="5334120" y="3657600"/>
            <a:ext cx="2666880" cy="18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dog +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dog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Documents and Settings\Owner\Application Data\Microsoft\Media Catalog\Downloaded Clips\cl0\HH00711_.wmf"/>
          <p:cNvPicPr/>
          <p:nvPr/>
        </p:nvPicPr>
        <p:blipFill>
          <a:blip r:embed="rId1"/>
          <a:stretch/>
        </p:blipFill>
        <p:spPr>
          <a:xfrm>
            <a:off x="5541840" y="3124080"/>
            <a:ext cx="2005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mail + bo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Mailbo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C:\Documents and Settings\Owner\Application Data\Microsoft\Media Catalog\Downloaded Clips\cl1f\j0078771.wmf"/>
          <p:cNvPicPr/>
          <p:nvPr/>
        </p:nvPicPr>
        <p:blipFill>
          <a:blip r:embed="rId1"/>
          <a:stretch/>
        </p:blipFill>
        <p:spPr>
          <a:xfrm>
            <a:off x="5638680" y="358128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lunch + 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lunchro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Documents and Settings\Owner\Application Data\Microsoft\Media Catalog\Downloaded Clips\cl23\j0088586.wm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81480" y="2971800"/>
            <a:ext cx="342900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light +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light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C:\Program Files\Microsoft Office\Clipart\photohm\j0144854.jpg"/>
          <p:cNvPicPr/>
          <p:nvPr/>
        </p:nvPicPr>
        <p:blipFill>
          <a:blip r:embed="rId1"/>
          <a:stretch/>
        </p:blipFill>
        <p:spPr>
          <a:xfrm>
            <a:off x="5562720" y="3429000"/>
            <a:ext cx="1770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6699"/>
                </a:solidFill>
                <a:latin typeface="Times New Roman"/>
              </a:rPr>
              <a:t>sea + sh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eash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c:\program files\microsoft office\clipart\standard\stddir1\an02523_.wmf"/>
          <p:cNvPicPr/>
          <p:nvPr/>
        </p:nvPicPr>
        <p:blipFill>
          <a:blip r:embed="rId2"/>
          <a:stretch/>
        </p:blipFill>
        <p:spPr>
          <a:xfrm>
            <a:off x="4952880" y="3581280"/>
            <a:ext cx="32162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pan + cakes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pancak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C:\Documents and Settings\Owner\Application Data\Microsoft\Media Catalog\Downloaded Clips\cl3c\j0151213.wmf"/>
          <p:cNvPicPr/>
          <p:nvPr/>
        </p:nvPicPr>
        <p:blipFill>
          <a:blip r:embed="rId2"/>
          <a:stretch/>
        </p:blipFill>
        <p:spPr>
          <a:xfrm>
            <a:off x="5638680" y="3352680"/>
            <a:ext cx="1965600" cy="24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19:36:03Z</dcterms:created>
  <dc:creator>Owner</dc:creator>
  <dc:description/>
  <dc:language>en-US</dc:language>
  <cp:lastModifiedBy>WRC</cp:lastModifiedBy>
  <dcterms:modified xsi:type="dcterms:W3CDTF">2011-02-06T23:23:30Z</dcterms:modified>
  <cp:revision>64</cp:revision>
  <dc:subject/>
  <dc:title>Compound Words</dc:title>
</cp:coreProperties>
</file>